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523-9261-41E2-9E0D-D1413744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D1F-321A-4BBA-9145-E86C6AEF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EC9-3BDC-41D3-8B5B-D101F970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67D-35F4-4D3C-BDFB-7B1B1EEB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2B34-C7C5-4FC2-855B-B36E1616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BCDE-CBC6-4299-8463-810DA3E1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FB92-D0D6-4B74-9687-7E5FDE17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14A0-8A9D-4D83-B65A-40211DF2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DFB8-A80C-4228-A7FE-637D221F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1DA5-087C-4FBE-A9B1-35DE752D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E749-40CD-42D9-9A37-C92EAECA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969-B76A-4172-8E54-ECFE3049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9678-5170-46C7-A3F3-B0B9736E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5AB4-B90B-48F2-B805-97E8FC27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EF4-61CF-4C52-95A2-F1C94FB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5678-0B52-4142-8B67-F7C920B8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1906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76080" y="40248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1BFB-D975-4BB7-87E1-A812C88F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42B-5424-4C61-B44B-37BBB5E2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23C-AD36-4228-BD26-0863E025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29B-2E81-4D21-9DCA-7AB3B979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2EBE-6678-489C-9324-9BF9B8A1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2C2F-6C07-40EB-B52E-9E53284D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7840" y="40248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CF0-7447-4488-B27C-D4D2BAA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248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B86-7CD2-423C-AD66-16B360A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3821040" cy="433548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1644480" cy="166068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50420"/>
              </a:gs>
              <a:gs pos="50000">
                <a:srgbClr val="0d0a46"/>
              </a:gs>
              <a:gs pos="100000">
                <a:srgbClr val="0504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Cornerston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101E-A142-4B7A-BA5B-DFA7911EA5CA}" type="slidenum">
              <a:rPr b="0" lang="en-US" sz="1400" spc="-1" strike="noStrike">
                <a:solidFill>
                  <a:srgbClr val="ebd189"/>
                </a:solidFill>
                <a:latin typeface="Cornerston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633d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d0a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d0a46"/>
              </a:gs>
              <a:gs pos="100000">
                <a:srgbClr val="3c292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3c2924"/>
              </a:gs>
              <a:gs pos="100000">
                <a:srgbClr val="0d0a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633d4e"/>
              </a:gs>
              <a:gs pos="100000">
                <a:srgbClr val="0d0a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Click to edit the title text format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4000-FAE4-4FDD-85EB-58A238CCB67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rnerstone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Cornerstone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4" marL="1828800" algn="ctr">
              <a:spcBef>
                <a:spcPts val="499"/>
              </a:spcBef>
              <a:buClr>
                <a:srgbClr val="633d4e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rnerstone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bd189"/>
                </a:solidFill>
                <a:latin typeface="Cornerstone"/>
              </a:rPr>
              <a:t>What is Economics?</a:t>
            </a:r>
            <a:endParaRPr b="0" lang="en-US" sz="6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3000" y="44193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Cornerstone"/>
              </a:rPr>
              <a:t>A crash course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Supply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This means that the higher the price, the higher the quantity suppli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Producers supply more at a higher price because selling a higher quantity at a higher price increases revenue.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Equilibriu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When supply and demand are equal the economy is said to be at equilibrium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At this point, the allocation of goods is at its most efficient because the amount of goods being supplied is exactly the same as the amount of goods being demand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Equilibriu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4" name=""/>
          <p:cNvSpPr/>
          <p:nvPr/>
        </p:nvSpPr>
        <p:spPr>
          <a:xfrm>
            <a:off x="31338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economics5" descr=""/>
          <p:cNvPicPr/>
          <p:nvPr/>
        </p:nvPicPr>
        <p:blipFill>
          <a:blip r:embed="rId1"/>
          <a:stretch/>
        </p:blipFill>
        <p:spPr>
          <a:xfrm>
            <a:off x="1447920" y="1876320"/>
            <a:ext cx="6229080" cy="46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What is Capitalism?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Capitalism is an economic system based on private: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Ownership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Production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rnerstone"/>
              </a:rPr>
              <a:t>Distribution of goods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Capitalism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free enterpris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- the government should not interfere in the economy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Powered by the “invisible hand” (competition for profit)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What is Economics?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conomics is the study of what constitutes rational human behavior in the endeavor to fulfill needs and wants.</a:t>
            </a:r>
            <a:r>
              <a:rPr b="0" lang="en-US" sz="3200" spc="-1" strike="noStrike">
                <a:solidFill>
                  <a:srgbClr val="eaeaea"/>
                </a:solidFill>
                <a:latin typeface="Cornerstone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The “Father” of Modern 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am Smith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1723 - 1790)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uthor of the famous book "An Inquiry into the Nature and Causes of the Wealth of Nations"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pawned the discipline of economics by trying to understand why some nations prospered while others lagged behind in povert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The Foundation of 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arcity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carcity refers to the tension between our limited resources and our unlimited wants and needs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r an individual, resources include time, money and skill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For a country, limited resources include natural resources, capital, labor force and technolog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acro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acroeconomics looks at the total output of a nation and the way the nation allocates its limited resources of land, labor and capital in an attempt to maximize production levels and promote trade and growth for future generations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fter observing the society as a whole, Adam Smith noted that there was an "invisible hand" turning the wheels of the economy: a market force that keeps the economy functioning.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Microeconomics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Microeconomics looks into similar issues, but on the level of the individual people and firms within the econom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It tends to be more scientific in its approach, and studies the parts that make up the whole economy.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nalyzing certain aspects of human behavior, microeconomics shows us how individuals and firms respond to changes in price and why they demand what they do at particular price levels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Demand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2" name=""/>
          <p:cNvSpPr/>
          <p:nvPr/>
        </p:nvSpPr>
        <p:spPr>
          <a:xfrm>
            <a:off x="313380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economics3" descr=""/>
          <p:cNvPicPr/>
          <p:nvPr/>
        </p:nvPicPr>
        <p:blipFill>
          <a:blip r:embed="rId1"/>
          <a:stretch/>
        </p:blipFill>
        <p:spPr>
          <a:xfrm>
            <a:off x="1638360" y="1697040"/>
            <a:ext cx="5867280" cy="4780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Demand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The law of demand states that, if all other factors remain equal, the higher the price of a good, the less people will demand that goo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rnerstone"/>
                <a:ea typeface="Times New Roman"/>
              </a:rPr>
              <a:t>In other words, the higher the price, the lower the quantity demanded. </a:t>
            </a:r>
            <a:endParaRPr b="0" lang="en-US" sz="3200" spc="-1" strike="noStrike">
              <a:solidFill>
                <a:srgbClr val="eaeaea"/>
              </a:solidFill>
              <a:latin typeface="Cornerstone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0420"/>
            </a:gs>
            <a:gs pos="50000">
              <a:srgbClr val="0d0a46"/>
            </a:gs>
            <a:gs pos="100000">
              <a:srgbClr val="0504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Cornerstone"/>
              </a:rPr>
              <a:t>Law of Supply</a:t>
            </a:r>
            <a:endParaRPr b="0" lang="en-US" sz="4000" spc="-1" strike="noStrike">
              <a:solidFill>
                <a:srgbClr val="ebd189"/>
              </a:solidFill>
              <a:latin typeface="Cornerstone"/>
            </a:endParaRPr>
          </a:p>
        </p:txBody>
      </p:sp>
      <p:sp>
        <p:nvSpPr>
          <p:cNvPr id="117" name=""/>
          <p:cNvSpPr/>
          <p:nvPr/>
        </p:nvSpPr>
        <p:spPr>
          <a:xfrm>
            <a:off x="31100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8" name="economics4" descr=""/>
          <p:cNvPicPr/>
          <p:nvPr/>
        </p:nvPicPr>
        <p:blipFill>
          <a:blip r:embed="rId1"/>
          <a:stretch/>
        </p:blipFill>
        <p:spPr>
          <a:xfrm>
            <a:off x="1647720" y="1752480"/>
            <a:ext cx="5819760" cy="4664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3:21:58Z</dcterms:created>
  <dc:creator>Computer User</dc:creator>
  <dc:description/>
  <dc:language>en-US</dc:language>
  <cp:lastModifiedBy>JDORMAN</cp:lastModifiedBy>
  <dcterms:modified xsi:type="dcterms:W3CDTF">2006-11-02T13:49:31Z</dcterms:modified>
  <cp:revision>22</cp:revision>
  <dc:subject/>
  <dc:title>PowerPoint Presentation</dc:title>
</cp:coreProperties>
</file>